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026-7935-4405-BBFD-2D970681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CD4-8448-44DF-9A18-98D9DFBF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00F-F9FF-486A-B731-921CD758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79E-E6A5-4DA0-B41C-B55EB01B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591-F921-4811-B034-2D481305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47D-6CDE-4088-A274-477FFCA9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5FB-6FB4-4CF8-A147-B4F2880F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F59-F3D4-4027-8281-D0D377C2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466-9B23-4229-A42D-B612DAAB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110-941C-49B9-B64F-D738825B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A59-3396-473C-A0F0-DBAD0D6E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F46-427D-4B31-9D9F-E3D9BCFD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4B3D-B04B-4BDC-88E1-355B10F5AE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8" descr=""/>
          <p:cNvPicPr/>
          <p:nvPr/>
        </p:nvPicPr>
        <p:blipFill>
          <a:blip r:embed="rId1"/>
          <a:stretch/>
        </p:blipFill>
        <p:spPr>
          <a:xfrm>
            <a:off x="1652760" y="-195120"/>
            <a:ext cx="50036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: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2:13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3:4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4: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5:223 R:1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: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: 1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: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286000" y="14446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.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.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.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.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.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.3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.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.5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0 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1.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2.  154                            CH: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:11                     7:4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:69                     8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:20                      9: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:87                   10;5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: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: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quare  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val      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iangle  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pezium  cyli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23:22:35Z</dcterms:created>
  <dc:creator>Education</dc:creator>
  <dc:description/>
  <dc:language>en-US</dc:language>
  <cp:lastModifiedBy>Education</cp:lastModifiedBy>
  <dcterms:modified xsi:type="dcterms:W3CDTF">2009-07-26T23:34:46Z</dcterms:modified>
  <cp:revision>21</cp:revision>
  <dc:subject/>
  <dc:title>Slide 1</dc:title>
</cp:coreProperties>
</file>